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723-1910-49D3-8340-4A11FDEC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466-02BF-4468-8137-075A3E2D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381-4730-4418-A7CF-76F60812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9A4-8C75-4959-87C0-C17FDADD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EEB-2A35-45D0-8156-B7E3AB0C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934-B0D8-4CCF-816E-8D5D422E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8D4-8FE0-4095-85E3-AF396C5E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15B-EE9F-497D-B88B-0AA597D1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3F5-C314-45E0-B88A-084C71D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131-6154-4471-9AEB-7B3CEDD0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BD2-4B4A-4E14-B5EE-A810FDC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622-4E08-4958-B797-87C23AFD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5308-A763-44A7-8E52-9DB623EE0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-71280" y="1110240"/>
            <a:ext cx="92865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300" spc="-1" strike="noStrike">
                <a:solidFill>
                  <a:srgbClr val="ffffff"/>
                </a:solidFill>
                <a:latin typeface="Arial"/>
                <a:ea typeface="Arial"/>
              </a:rPr>
              <a:t>О, Боже наш, Ти, Който сам Си любов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300" spc="-1" strike="noStrike">
                <a:solidFill>
                  <a:srgbClr val="ffffff"/>
                </a:solidFill>
                <a:latin typeface="Arial"/>
                <a:ea typeface="Arial"/>
              </a:rPr>
              <a:t>бъди със нас и пази, и благослови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300" spc="-1" strike="noStrike">
                <a:solidFill>
                  <a:srgbClr val="ffffff"/>
                </a:solidFill>
                <a:latin typeface="Arial"/>
                <a:ea typeface="Arial"/>
              </a:rPr>
              <a:t>Исусе наш, Ти извор Си на благодат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300" spc="-1" strike="noStrike">
                <a:solidFill>
                  <a:srgbClr val="ffffff"/>
                </a:solidFill>
                <a:latin typeface="Arial"/>
                <a:ea typeface="Arial"/>
              </a:rPr>
              <a:t>бъди със нас и пази, и благослови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300" spc="-1" strike="noStrike">
                <a:solidFill>
                  <a:srgbClr val="ffffff"/>
                </a:solidFill>
                <a:latin typeface="Arial"/>
                <a:ea typeface="Arial"/>
              </a:rPr>
              <a:t>О, Свети Дух, Ти наш Утешител и Дар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300" spc="-1" strike="noStrike">
                <a:solidFill>
                  <a:srgbClr val="ffffff"/>
                </a:solidFill>
                <a:latin typeface="Arial"/>
                <a:ea typeface="Arial"/>
              </a:rPr>
              <a:t>бъди със нас и пази, и благослови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7:52:49Z</dcterms:created>
  <dc:creator>SDA</dc:creator>
  <dc:description/>
  <dc:language>en-US</dc:language>
  <cp:lastModifiedBy>SDA</cp:lastModifiedBy>
  <dcterms:modified xsi:type="dcterms:W3CDTF">2011-02-05T17:03:30Z</dcterms:modified>
  <cp:revision>5</cp:revision>
  <dc:subject/>
  <dc:title>Slide 1</dc:title>
</cp:coreProperties>
</file>